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B7F-3A9E-4D51-BD81-59DAE4BF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2C1-EE63-4A6A-B5D4-B992F87D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6091-1A84-499E-BBB8-1810B2CF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F4A-F5BD-468A-9E21-69C29BF6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C7D-081C-447C-948C-B820FED4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303-4B41-445F-8F75-9EA4D64D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D0E-8CB1-41DD-8EC4-95C00A4F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E90E-4C96-4439-8FC2-4C773533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5CD-6B1B-4B43-ADF7-B34BA9F8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380-61AC-439A-947F-52CAB967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999-9DFA-47EB-BF9C-FB2F737B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946-CE33-4EF7-BCD9-387619C5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0CE8-BE79-4FC4-AACB-23A25A150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holidaysinmalaysia.org/wp-content/uploads/2009/03/f_03dayang.jpg&amp;imgrefurl=http://holidaysinmalaysia.org/malaysia-holidays-news/the-mysterious-holidays-places-in-malaysia/&amp;usg=__5_UQMgH3e9Df6MoL6Dh_TRrRDSw=&amp;h=296&amp;w=400&amp;sz=55&amp;hl=en&amp;start=1&amp;um=1&amp;tbnid=yM6ZIAPgYowxgM:&amp;tbnh=92&amp;tbnw=124&amp;prev=/images%3Fq%3Dplaces%2Bin%2Bmalaysia%26hl%3Den%26safe%3Dactive%26sa%3DX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au/imgres?imgurl=http://www.cuti.com.my/Sub/Kedah/Langkawi/langkawi_island.jpg&amp;imgrefurl=http://www.indusladies.com/forums/indians-in-malaysia/3194-tourist-places-in-malaysia.html&amp;usg=__LDCaYPNeOd-9fY2LzZhjACxLfj4=&amp;h=314&amp;w=388&amp;sz=36&amp;hl=en&amp;start=31&amp;um=1&amp;tbnid=39Kmu5Kt47wJeM:&amp;tbnh=100&amp;tbnw=123&amp;prev=/images%3Fq%3Dplaces%2Bin%2Bmalaysia%26ndsp%3D20%26hl%3Den%26safe%3Dactive%26sa%3DN%26start%3D20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.au/imgres?imgurl=http://farm2.static.flickr.com/1269/540173688_e54f593b6d_o.jpg&amp;imgrefurl=http://sudoku.com.au/UserPage.aspx%3FGo%3DE22-7-1966%26UID%3D10079&amp;usg=__IYSMiGu_Mv_NAploHDn-tIjt8Tg=&amp;h=348&amp;w=320&amp;sz=36&amp;hl=en&amp;start=32&amp;um=1&amp;tbnid=aQA0ygUi-7KiWM:&amp;tbnh=120&amp;tbnw=110&amp;prev=/images%3Fq%3Dplaces%2Bin%2Bmalaysia%26ndsp%3D20%26hl%3Den%26safe%3Dactive%26sa%3DN%26start%3D20%26um%3D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.au/imgres?imgurl=http://asianimages.files.wordpress.com/2007/11/cacti2.jpg&amp;imgrefurl=http://asianimages.wordpress.com/2007/11/&amp;usg=__1jMLgGcvIGpShLfPGlMHNbijzWU=&amp;h=269&amp;w=359&amp;sz=52&amp;hl=en&amp;start=56&amp;um=1&amp;tbnid=g1BiJQku6DgBYM:&amp;tbnh=91&amp;tbnw=121&amp;prev=/images%3Fq%3Dplaces%2Bin%2Bmalaysia%26ndsp%3D20%26hl%3Den%26safe%3Dactive%26sa%3DN%26start%3D40%26um%3D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.au/imgres?imgurl=http://bp3.blogger.com/_SdCgNBd85Po/SFZDpCrv6aI/AAAAAAAAAxo/RdBoVPc-OIk/s400/langkawi.jpg&amp;imgrefurl=http://travelnikna.blogspot.com/&amp;usg=__BPsPkXWbbdRihDFjBvvuQVRCSG8=&amp;h=267&amp;w=400&amp;sz=23&amp;hl=en&amp;start=65&amp;um=1&amp;tbnid=-U99tOP62te81M:&amp;tbnh=83&amp;tbnw=124&amp;prev=/images%3Fq%3Dplaces%2Bin%2Bmalaysia%26ndsp%3D20%26hl%3Den%26safe%3Dactive%26sa%3DN%26start%3D60%26um%3D1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.au/imgres?imgurl=http://bp3.blogger.com/_SdCgNBd85Po/SHauf1UIkaI/AAAAAAAAAzA/A9q1Sj2lDB0/s400/cm1.jpg&amp;imgrefurl=http://travelnikna.blogspot.com/&amp;usg=__7qZbS8TZ2JaITD85jLngencs_6k=&amp;h=300&amp;w=400&amp;sz=23&amp;hl=en&amp;start=75&amp;um=1&amp;tbnid=u4YmeQDrnNEAxM:&amp;tbnh=93&amp;tbnw=124&amp;prev=/images%3Fq%3Dplaces%2Bin%2Bmalaysia%26ndsp%3D20%26hl%3Den%26safe%3Dactive%26sa%3DN%26start%3D60%26um%3D1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m.au/imgres?imgurl=http://globalcitizens.siiaonline.org/files/malaysia%2520-%2520Petronas%2520Towers.jpg&amp;imgrefurl=http://globalcitizens.siiaonline.org/%3Fq%3Dblog/malaysia-through-kuala-lumpur&amp;usg=__WwiFB7lh2itb_4Mrhw1i369DUGQ=&amp;h=359&amp;w=439&amp;sz=54&amp;hl=en&amp;start=17&amp;um=1&amp;tbnid=lrPhUQBknrHoNM:&amp;tbnh=104&amp;tbnw=127&amp;prev=/images%3Fq%3Dmalaysia%26hl%3Den%26safe%3Dactive%26sa%3DN%26um%3D1" TargetMode="External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hmlmulticultural.files.wordpress.com/2009/03/malaysia-flag.jpg&amp;imgrefurl=http://hmlmulticultural.wordpress.com/2009/03/24/malaysia/&amp;usg=__Ar_g5tuf3AngPAyY1HEQXLy9nG0=&amp;h=334&amp;w=500&amp;sz=32&amp;hl=en&amp;start=2&amp;um=1&amp;tbnid=wAktgjU37kw38M:&amp;tbnh=87&amp;tbnw=130&amp;prev=/images%3Fq%3DMalaysia%2527s%2Bflag%26hl%3Den%26safe%3Dactive%26sa%3DX%26um%3D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mages.google.com.au/imgres?imgurl=http://image63.webshots.com/63/8/30/65/444383065IIboby_fs.jpg&amp;imgrefurl=http://travel.webshots.com/photo/1444383065077629816IIboby&amp;usg=__fxX6VsGH7qK94ySCzUQRbHJHmM0=&amp;h=1212&amp;w=1797&amp;sz=369&amp;hl=en&amp;start=39&amp;tbnid=iGomGJJhS292bM:&amp;tbnh=101&amp;tbnw=150&amp;prev=/images%3Fq%3Dtransport%2Bin%2Bmalaysia%26gbv%3D2%26ndsp%3D21%26hl%3Den%26safe%3Dactive%26sa%3DN%26start%3D2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2565360"/>
            <a:ext cx="9144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ahootz Fatty"/>
              </a:rPr>
              <a:t>malay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ahootz Fatty"/>
              <a:ea typeface="Kahootz Fatty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ist attr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2232000" cy="165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95640" y="1052640"/>
            <a:ext cx="2016000" cy="1639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1125360"/>
            <a:ext cx="1584000" cy="1582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24360" y="1125360"/>
            <a:ext cx="1872000" cy="1551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2637000"/>
            <a:ext cx="2087640" cy="1396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24000" y="2565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780000" y="2708280"/>
            <a:ext cx="1541160" cy="126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pulation in Malaysia is 25,71,8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rea in Malaysia is 329,750 sq 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tion is Southeastern Asia, peninsula bordering Thailand and northern one-third of the island of Borneo, bordering Indonesia, Brunei, and the South China Sea, south of Vietn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aysia is 1 of the Commonwealth countri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76720" y="476280"/>
            <a:ext cx="2847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bout Malays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aysia’s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525920" cy="3792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258920" y="26028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laysia’s coat of arm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496360" cy="6165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050920" y="549360"/>
            <a:ext cx="42260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p of Malay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594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hootz Fire"/>
              </a:rPr>
              <a:t>Transport in Malaysia is: Cars, trains and boa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365720"/>
            <a:ext cx="1763640" cy="1187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916360" y="260280"/>
            <a:ext cx="29811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Kahootz Fire"/>
              </a:rPr>
              <a:t>Transpor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Kahootz Fire"/>
              <a:ea typeface="Kahootz Fire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ort In Malay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orts in Malaysia are Basketball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cer , Gridiron, B.M.X and ho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360" y="3645000"/>
            <a:ext cx="1368720" cy="912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24680" y="3294000"/>
            <a:ext cx="32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0:02:27Z</dcterms:created>
  <dc:creator>Admin</dc:creator>
  <dc:description/>
  <dc:language>en-US</dc:language>
  <cp:lastModifiedBy>Admin</cp:lastModifiedBy>
  <dcterms:modified xsi:type="dcterms:W3CDTF">2009-05-28T23:56:18Z</dcterms:modified>
  <cp:revision>7</cp:revision>
  <dc:subject/>
  <dc:title> </dc:title>
</cp:coreProperties>
</file>